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0EFDCBD1-6B15-42A6-9685-698C267B9054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2AA26943-F5C2-4E47-AF08-FF5FC0C28F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1C24A0DA-E086-4C11-A956-D4C59A28FF1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1165B278-FCA3-4F38-85C3-76F15A64A3F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929F6E02-B4D7-41AC-9AE0-0E8AD1F124A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56C1DE92-A9B0-4C14-BEE7-56C861FD951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EAE638DC-9419-4F3F-A568-0087EEE4F2A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F514D384-4E90-4776-80B9-FD2459971A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50D8D7E8-88DF-4E1E-BB71-60F84CEC1D4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1B1789A1-7A60-4FA8-AFCF-143107502E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8307FCF0-366E-47F6-A921-738ED2F026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4D91B95D-E71B-4B64-9D2E-0BB4910FDD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436984D8-98BF-43A6-9135-7046A707869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3F98773A-8D1F-4765-A865-286B7E6BB8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96A-90E6-4B60-A5B5-68A0FD3B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639-7C25-46D5-8010-7C70981C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199-8682-428E-847B-9C87214C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BEF-5A08-4C76-9B1F-A236ECA1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1D5D-E757-4EF7-B69A-C2E8C0FD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14EA-0B28-4A59-B38E-93764E70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0967-3F82-40D0-B88E-CFC6C796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65BC-00E0-4D0B-B8C4-FEA3B008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E71D-20ED-4519-98FA-A10CBC8C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6A64-0310-4B3B-B107-AD7D41A6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A3C9-2E13-42C7-AD6E-72067A0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82D-B10A-4A1E-8C9F-23CC13BF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4BB5-3AC3-44F8-9935-10849EA6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B7AC-1DA5-4AB9-AB8F-A469DA49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F656-C3EB-4318-9F44-F0523836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3B6D-4FA7-495C-ABE7-CFF9B8F9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CE13-183A-4917-BE05-B5B7DDB8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5527-7ADB-446A-8442-F901F965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9133-E3B4-4ADC-B703-566BD628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3DFC-093C-45A0-A149-C082A33F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86F7-33AE-40A9-B4E9-84D8A579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9B11F-AA64-4FCE-AB0C-D7A1519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EFC-DCA5-4B95-B5C5-FECFD11A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74C8-D975-444B-9BFD-4B2A9E52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8A49-A506-4B8B-91C5-0C37D534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47EC-1A79-458E-B6AC-0B23AE8C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C513-1B05-4E13-A9A3-7712A3BD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E64E-0F5C-418D-8F1D-561CC6CF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DF25-7AB2-4149-8532-A92BFEF6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6B74-CEFF-4B56-9408-D47CDFC1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9D6-BA33-4659-A2AA-BDE96626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349-FC9C-4F01-9BC0-EA61D49D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83D-BB13-4C70-BA31-066450C1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5C9-5F7F-4175-B5BB-ECB7907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572-34D2-4850-B3F9-D1C4000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960-D036-4318-AF1A-7BB256F9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Workshop KINGjaarcongres 06 januari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73844-D677-48C7-8FE0-3EA5E88CC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2680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Workshop KINGjaarcongres 06 januari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C168C-1C28-4D9C-85E1-D1198E0F1C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3094.1010_KING_Mast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3094.1010_KING_Mast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3094.1010_KING_Titel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22680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Workshop KINGjaarcongres 06 januari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032AC-3334-4FB9-9573-64B8DAC5FF4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peter.klaver@kinggemeenten.nl" TargetMode="External"/><Relationship Id="rId2" Type="http://schemas.openxmlformats.org/officeDocument/2006/relationships/hyperlink" Target="mailto:jan.brinkkemper@kinggemeenten.nl" TargetMode="Externa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0520" y="3041280"/>
            <a:ext cx="66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4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Verdana"/>
                <a:ea typeface="Verdana"/>
              </a:rPr>
              <a:t>Standaard zaak,- en </a:t>
            </a:r>
            <a:br>
              <a:rPr sz="3500"/>
            </a:br>
            <a:r>
              <a:rPr b="1" lang="en-US" sz="3500" spc="-1" strike="noStrike">
                <a:solidFill>
                  <a:srgbClr val="ffff00"/>
                </a:solidFill>
                <a:latin typeface="Verdana"/>
                <a:ea typeface="Verdana"/>
              </a:rPr>
              <a:t>DMS servic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227160" y="5923080"/>
            <a:ext cx="89168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eter Klaver en Jan Brinkkemp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    Woerden,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25 oktober 201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69880" y="1123920"/>
            <a:ext cx="846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5200" y="274680"/>
          <a:ext cx="7162920" cy="6243480"/>
        </p:xfrm>
        <a:graphic>
          <a:graphicData uri="http://schemas.openxmlformats.org/drawingml/2006/table">
            <a:tbl>
              <a:tblPr/>
              <a:tblGrid>
                <a:gridCol w="419040"/>
                <a:gridCol w="2219400"/>
                <a:gridCol w="731880"/>
                <a:gridCol w="1015920"/>
                <a:gridCol w="1017720"/>
                <a:gridCol w="1041480"/>
                <a:gridCol w="717480"/>
              </a:tblGrid>
              <a:tr h="380880">
                <a:tc gridSpan="2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fa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eserv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F </a:t>
                      </a:r>
                      <a:br>
                        <a:rPr sz="1200"/>
                      </a:b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akservices (1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F </a:t>
                      </a:r>
                      <a:br>
                        <a:rPr sz="1200"/>
                      </a:b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akdocumentservices (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IS </a:t>
                      </a:r>
                      <a:br>
                        <a:rPr sz="1200"/>
                      </a:b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ocumentservices (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IS</a:t>
                      </a:r>
                      <a:br>
                        <a:rPr sz="1200"/>
                      </a:b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gratieservices (4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 gridSpan="6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adplegen zaakgegeven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ef Zaakstatu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ef Zaakdetail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4840">
                <a:tc gridSpan="6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derhouden zaakgegeven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ualiseer Zaakstatu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eëer Zaa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pdate Zaa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eer Zaakidentificati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3800">
                <a:tc gridSpan="3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adplegen Zaakdocument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ef lijst Zaakdocument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40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ef Zaakdocument lez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derhouden Zaakdocument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4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oeg Zaakdocument to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ppel Zaakdocument aan Zaa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ak Zaakdocu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pdate Zaakdocu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ef Zaakdocument bewerk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eer Documentidentificati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3040">
                <a:tc gridSpan="6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nchroniseren van zaakgegevens en zaakdocument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IS integratieservices (CMIS Changelog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5760">
                <a:tc gridSpan="6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erviceconsumer/serviceprovide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1) Gevolgen nieuwe verdeling functional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0000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Het Zaaksysteem biedt verplicht de StUF Zaakservices en de StUF Documentservices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Interactie met DMS verloopt via CMIS (Documentservices en integratieservices)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Het DMS biedt optioneel de StUF Document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Interactie met Zaaksysteem op basis van StUF ZKN (Zaak,- en zaakdocumentservices)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Het Zaaksysteem synchroniseert met het DMS door middel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Gebruik van van CMIS operaties e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door het ophalen/verwerken van een CMIS changelo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Het Zaaksysteem hoeft geen StUF berichten te genereren op basis van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MIS changelog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) Interfaces voor DMS op basis van CM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7142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ituatie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duidelijk of CMIS documentinterface op het DMS optioneel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duidelijk welke CMIS operaties/services aangeboden moeten worden door D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oorstel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e interactie met DMS verloopt via CM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erp beschrijven welke CMIS operaties onderdeel zijn van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MIS documentservices en CMIS integratie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or de zaakdocumentservices en integratieservices (6 t/m 15) beschrijven hoe die met CMIS ingevuld word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Gevolgen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teractie met DMS kan scherper beschreven word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ocument Service Consumers kunnen via CMIS (zaak)documenten aanlever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Verbreding van werkingsgebied. Door de CMIS document interface verplicht te stellen beschrijft de standaard ook hoe ‘niet zaak documenten’ aangeleverd kunnen worden aan het D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3) Motivatie beschrijven waarom kiezen vo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M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d0c8b"/>
                </a:solidFill>
                <a:latin typeface="Verdana"/>
              </a:rPr>
              <a:t>Situatie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 dit moment staat in de specificatie onvoldoende gemotiveerd waarom gekozen is voor CMI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t zorgt voor discu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d0c8b"/>
                </a:solidFill>
                <a:latin typeface="Verdana"/>
              </a:rPr>
              <a:t>Voorstel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vatie toevoegen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038400" cy="6162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3038400" y="0"/>
            <a:ext cx="3076560" cy="4524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4657680" y="1760400"/>
            <a:ext cx="4486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3) Argumenten waarom we voor CMIS kiez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07640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Het gebruik van internationale (open) standaarden als CMIS leidt tot een breder aanbod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van softwareproducten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NORA (v2) schrijft voor dat internationale standaarden boven nationale standaarden gaan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Het aanbod van DMS die ‘out of the box’  CMIS ondersteunt is groter groter dan StUF ZKN. Dat geldt ook voor Open source producten. Gemeenten krijgen daardoor meer keuzevrijheid.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CMIS is goed aan te sluiten op RGBZ waardoor het goed toepasbaar is voor beheer en ontsluiten van Zaakdocumenten 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CMIS biedt een bredere functionaliteit m.b.t. documentbeheer (locking, versioning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Met CMIS kan een documentinterface aangeboden worden voor </a:t>
            </a:r>
            <a:r>
              <a:rPr b="0" i="1" lang="nl-NL" sz="1400" spc="-1" strike="noStrike">
                <a:solidFill>
                  <a:srgbClr val="000000"/>
                </a:solidFill>
                <a:latin typeface="Verdana"/>
              </a:rPr>
              <a:t>alle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documenten en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niet alleen zaakgerelateerde documenten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Resultaatverplichting 20 operatieNUP zegt: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Verdana"/>
              </a:rPr>
              <a:t>“Bij aanbestedingen van software krijgt, bij gelijke geschiktheid, open source de voorkeur”.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4) Verplicht ondersteunen StUF Stuurgegev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ituatie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iciet in de specificatie dat de volgende StUF Stuurgegevens verplich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ijn (p22)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&lt;/organisatie&gt;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&lt;/applicatie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&lt;/administratie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&lt;/gebruiker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Voorstel: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zien &lt;/applicatie&gt; verplicht is gesteld in de StUF 3.01 specificatie alle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t gegeven verplicht stell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Gevolgen: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aksysteem kan alleen maar op basis van het &lt;/applicatie&gt;stuurgegeve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oordelen of de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gevraagde service /functie /koppeling door het zendende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systeem </a:t>
            </a:r>
            <a:r>
              <a:rPr b="0" lang="nl-NL" sz="1400" spc="-1" strike="noStrike" u="sng">
                <a:solidFill>
                  <a:srgbClr val="000000"/>
                </a:solidFill>
                <a:uFillTx/>
                <a:latin typeface="Verdana"/>
              </a:rPr>
              <a:t>mag worden gebruikt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F services aanbieden zoals voorgeschreven in StUF 3.01 specific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d0c8b"/>
                </a:solidFill>
                <a:latin typeface="Verdana"/>
              </a:rPr>
              <a:t>Situatie: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 de huidige specificatie zijn twee mogelijkheden beschreven om de beschreven services te implementeren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lke service wordt als een concrete webservice geïmplementeerd of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‘StUF manier’, er wordt een aantal generieke webservices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(verwerkASynchroon, verwerkSynchroneKennisgeving etc.) geimplementeerd waarbinnen de beschreven services als operations worden aangebode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oorstel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m goed aan te sluiten op StUF is het voorstel om de ‘StUF manier’ voor te schrijve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Gevolgen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er helderheid: er wordt scherp gedefinieerd hoe de services geïmplementeerd moeten word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specificatie sluit beter aan bij de StUF 3.01 standaa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6) Actief wijzigingen aan een zaak doorsturen naa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‘zaak afhandelende consumer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ituatie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es moeten actief het Zaaksysteem bevragen om te kijk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zich wijzigingen hebben voorgedaan die voor hen relevant zijn o.a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t de services Geef Zaakdetails en Geef Zaakstatu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oorstel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jzigingen aan een zaak leiden tot StUF berichten die naar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‘zaak afhandelende consumer’ worden verstuur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aliteit beleggen in Zaaksyste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aliteit meenemen in versie 1.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Gevolgen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aksysteem krijgt ‘abonnementen service’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moeten bepalen bij welke wijzigingen welke StUF berichten word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rstuu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aliteit Zaaksysteem wordt complex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pecificatie word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eilijker te implementer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ige vragen en opm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‘Geef Zaakstatus’ service retourneert alleen de meest recent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TATUS. Is het wenselijk om ook alle doorlopen statussen te retourneren?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et er bij de asynchrone services afgesproken worden binnen hoeveel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ijd er gereageerd moet worden?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Hoe moet de ZTC opgenomen worden? Is nu inderdaad ge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standaard’ maar wat is het dan wel? Is het nodig om ZTC in dit document 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beschrijven?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phalen van de CMIS changelog o.b.v. pull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prefix KING is lastig te implementeren in DMS voo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lementen die reeds in een DMS bestaan zoals auteur titel en creatiedatum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rvaringen uit proefimplementaties?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4360" y="738360"/>
            <a:ext cx="7449840" cy="33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Introductie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Terugkoppeling voortgang proefimplementaties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lvl="1" marL="572040" indent="-21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monstratie Exxelle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Jnet/B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-21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ere (proef)implementaties  (zie softw.ca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Terugkoppeling reviewronde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lvl="1" marL="572040" indent="-21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zicht ingediende verbetersugges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-21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preken belangrijkste verbetersugges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d0c8b"/>
                </a:solidFill>
                <a:latin typeface="Verdana"/>
              </a:rPr>
              <a:t>Planning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Vervolg en rondvraag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volg proces en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Nog andere belangrijke opmerkingen die besproken moeten worden?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ervolg proces, planning en afspraken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vember/december: KING verwerkt verbetersugges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vember/december: KING bereidt vaststellingsproces vo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ranciers werken softwarecatalogus bij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rancier wer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ember: Aangepaste specificatie wordt rondgestuurd aan werkgroe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ember: Deelnemers geven goedkeuring per m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embe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sluitende? bijeenkomst voor de specificat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demonstraties van proefimplementati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eter Klaver (</a:t>
            </a:r>
            <a:r>
              <a:rPr b="0" lang="nl-NL" sz="1600" spc="-1" strike="noStrike" u="sng">
                <a:solidFill>
                  <a:srgbClr val="fdf004"/>
                </a:solidFill>
                <a:uFillTx/>
                <a:latin typeface="Verdana"/>
                <a:hlinkClick r:id="rId1"/>
              </a:rPr>
              <a:t>peter.klaver@kinggemeenten.nl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Jan Brinkkemper (</a:t>
            </a:r>
            <a:r>
              <a:rPr b="0" lang="nl-NL" sz="1600" spc="-1" strike="noStrike" u="sng">
                <a:solidFill>
                  <a:srgbClr val="fdf004"/>
                </a:solidFill>
                <a:uFillTx/>
                <a:latin typeface="Verdana"/>
                <a:hlinkClick r:id="rId2"/>
              </a:rPr>
              <a:t>jan.brinkkemper@kinggemeenten.nl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a’s voor toelic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volg proces en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Vandaag: Ingrijpende en tegenstrijdige verbetersuggesties doornemen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November/december: KING verwerkt verbetersuggesties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November/december: KING bereidt vaststellingsproces voor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December: Aangepaste specificatie wordt rondgestuurd aan werkgroep;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December: Deelnemers geven goedkeuring per mail</a:t>
            </a:r>
            <a:br>
              <a:rPr sz="1400"/>
            </a:b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December: afsluitende bijeenkomst OF vervolgbijeenkomst </a:t>
            </a:r>
            <a:br>
              <a:rPr sz="1400"/>
            </a:b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(afhankelijk van goedkeuring deelnemers)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vullende specificatie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sluiting op Mijn Overheid Lopende Z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7320"/>
            <a:ext cx="8459640" cy="13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ed0c8b"/>
                </a:solidFill>
                <a:latin typeface="Verdana"/>
              </a:rPr>
              <a:t>Twee losse specificaties: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lvl="1" marL="490320" indent="-188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Standaard service voor aansluiting op Lopende Zak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90320" indent="-188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Standaard services voor zaaksysteem en D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ed0c8b"/>
                </a:solidFill>
                <a:latin typeface="Verdana"/>
              </a:rPr>
              <a:t>Standaarden vullen elkaar aan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226080" indent="-226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ed0c8b"/>
                </a:solidFill>
                <a:latin typeface="Verdana"/>
              </a:rPr>
              <a:t>Gebaseerd op bestaande aansluitdocumentatie Lopende Zaken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226080" indent="-226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ed0c8b"/>
                </a:solidFill>
                <a:latin typeface="Verdana"/>
              </a:rPr>
              <a:t>Lopende Zaken is service provider van service om zaakstatus door te geven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400040" y="2779560"/>
            <a:ext cx="5829480" cy="2810160"/>
          </a:xfrm>
          <a:prstGeom prst="rect">
            <a:avLst/>
          </a:prstGeom>
          <a:ln w="0">
            <a:noFill/>
          </a:ln>
        </p:spPr>
      </p:pic>
      <p:sp>
        <p:nvSpPr>
          <p:cNvPr id="198" name="Ovaal 1"/>
          <p:cNvSpPr/>
          <p:nvPr/>
        </p:nvSpPr>
        <p:spPr>
          <a:xfrm>
            <a:off x="2657520" y="4019400"/>
            <a:ext cx="1485720" cy="905040"/>
          </a:xfrm>
          <a:prstGeom prst="ellipse">
            <a:avLst/>
          </a:prstGeom>
          <a:noFill/>
          <a:ln w="25560">
            <a:solidFill>
              <a:srgbClr val="d7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ogelijke invulling door system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847800" y="1943280"/>
            <a:ext cx="7448400" cy="1952280"/>
          </a:xfrm>
          <a:prstGeom prst="rect">
            <a:avLst/>
          </a:prstGeom>
          <a:ln w="0">
            <a:noFill/>
          </a:ln>
        </p:spPr>
      </p:pic>
      <p:sp>
        <p:nvSpPr>
          <p:cNvPr id="201" name="Tekstvak 1"/>
          <p:cNvSpPr/>
          <p:nvPr/>
        </p:nvSpPr>
        <p:spPr>
          <a:xfrm>
            <a:off x="1973520" y="475308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canstraat toevoegen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UF Testplatform en opstellen standaard tests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Het StUF Testplatform kan reeds worden gebruikt voor StUF ZKN 3.10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Aanvullend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ard testset die voor alle leveranciers geldt e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itgevoerd dient te worden voorafgaand aan in productna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pname testset in StUF Testplat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Graag opgave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e betrokken wil worden bij opstellen tests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orbeeldberichten die hergebruikt kunnen worden voor tes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Denk aan opname van uw softwareproduct in de softwarecatalogus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roces uitwerking en Communic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Processen beschrijven om werking en toepassingsgebied standaard duidelijk </a:t>
            </a:r>
            <a:br>
              <a:rPr sz="1600"/>
            </a:b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te maken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elke gemeenten doen me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view en workshop(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Communicatie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unicatie is voorbere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lanning na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n productiename  (1/10/2012?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Hoe communiceren?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ieuwsbrief +  diverse vakbladen en websit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Leveranciersspecifieke communicati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a eigen media en kanale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andaard services voor Zaaksysteem en DMS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 hoofdlij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4000" y="14144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Beschrijft services en functionaliteit voor ontsluiten en onderhouden</a:t>
            </a:r>
            <a:br>
              <a:rPr sz="1600"/>
            </a:b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 zaakgegevens en zaakgerelateerde documenten.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ervices zijn gebaseerd op StUF ZKN 3.x / RGBZ 1.0 en CMIS 1.0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pecificatie stelt eisen aan volgende referentiecomponenten (en daarmee aan</a:t>
            </a:r>
            <a:br>
              <a:rPr sz="1600"/>
            </a:b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oftware producten die invulling geven aan deze referentiecomponenten)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aksysteem (Z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ak DMS brug (Bru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MS (DM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ak Service consumer (Zs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MIS Service consumer (Cs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d0c8b"/>
                </a:solidFill>
                <a:latin typeface="Verdana"/>
              </a:rPr>
              <a:t>Eén optionaliteit: CMIS interface voor </a:t>
            </a:r>
            <a:br>
              <a:rPr sz="1600"/>
            </a:br>
            <a:r>
              <a:rPr b="1" lang="en-US" sz="1600" spc="-1" strike="noStrike">
                <a:solidFill>
                  <a:srgbClr val="ed0c8b"/>
                </a:solidFill>
                <a:latin typeface="Verdana"/>
              </a:rPr>
              <a:t>CMIS Service consumer (2c)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5762520" y="4335480"/>
          <a:ext cx="3381480" cy="25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2520" y="4335480"/>
                    <a:ext cx="33814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ferentie architectu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4000" y="9334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ijdelijke aanduiding voor inhoud 6"/>
          <p:cNvSpPr/>
          <p:nvPr/>
        </p:nvSpPr>
        <p:spPr>
          <a:xfrm>
            <a:off x="68436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1504800" y="1417680"/>
          <a:ext cx="578196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417680"/>
                    <a:ext cx="57819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trodu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atste bijeenkom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catie op 9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g niet voldoende voor vaststellingspro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enen laatste wijzigingen datum 22/9/2012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e op basis van proefimplementat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ulta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100 inhoudelijke verbetersugges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rijpende wijzigingen aan specificatie nodi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aro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 vroeg om specificatie vandaag vast te stel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ndaag gebruiken om (beoogde) wijzigingen af te st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77760" y="1276200"/>
          <a:ext cx="6596280" cy="4527720"/>
        </p:xfrm>
        <a:graphic>
          <a:graphicData uri="http://schemas.openxmlformats.org/drawingml/2006/table">
            <a:tbl>
              <a:tblPr/>
              <a:tblGrid>
                <a:gridCol w="604800"/>
                <a:gridCol w="2116440"/>
                <a:gridCol w="1936800"/>
                <a:gridCol w="1938240"/>
              </a:tblGrid>
              <a:tr h="1796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Ref #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pplicatieservi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Ref. comp provid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Ref. comp. consum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98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adplegen zaakgegeve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ef Zaakstatu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ef Zaakdetai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derhouden zaakgegeve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ua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eer Zaakstatu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reëer Zaa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pdate Zaa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eer Zaakidentificati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adplegen Zaakdocument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ef lijst Zaakdocument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ef Zaakdocument lez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derhouden Zaakdocument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oeg Zaakdocument to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ppel Zaakdocument aan Zaa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ak Zaakdoc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pdate Zaakdoc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ef Zaakdocument bewerk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eer Documentidentificati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ynchroniseren van zaakgegevens en zaakdocument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ynchroniseer zaakgegevens (van DMS naar Zaaksysteem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M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ynchroniseer zaakdocumenten (van Zaaksysteem naar DM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6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mo / toelichting proefimplementatie doo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CT en EXXELL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koppeling  voortgang proefimplementa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9716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ed0c8b"/>
                </a:solidFill>
                <a:latin typeface="Verdana"/>
              </a:rPr>
              <a:t>Opname  van de standaard in de softwarecatalogus.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ed0c8b"/>
                </a:solidFill>
                <a:latin typeface="Verdana"/>
              </a:rPr>
              <a:t>Geven deze gegevens een betrouwbaar beeld?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193920" y="1760400"/>
            <a:ext cx="53452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koppeling reviewro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Op laatste moment nog veel verbetersuggesties ontvangen</a:t>
            </a:r>
            <a:br>
              <a:rPr sz="1800"/>
            </a:b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&gt; 100 inhoudelijke verbetersuggesties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Conclusie: 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1) Er is behoefte aan meer scherpte en helderhei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2) De uitwerking van implementatievarianten (middels de “brug”) zorgt voor onduidelijkhe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) De referentie architectuur wordt 1-op-1 gekoppeld aan softwareproduc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) Onduidelijk is wat verplicht/optioneel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n. op webservice/functie niveau i.r.t. referentiecompon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5) Interacties kunnen niet altijd scherp gespecificeerd worden doo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ptionaliteit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zicht te bespreken verbetersugges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000" y="11239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Aangepaste referentiearchitectuur; verbeterde verdeling van functionaliteit over referentie componenten </a:t>
            </a:r>
            <a:br>
              <a:rPr sz="1600"/>
            </a:b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Interfaces voor DMS uitsluitend op basis van CMIS (StUF document interface optioneel)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ak definiëren welke CMIS operaties/services gebruikt moeten word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Motivatie gebruik CMIS</a:t>
            </a:r>
            <a:br>
              <a:rPr sz="1600"/>
            </a:b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erplicht ondersteunen van StUF stuurgegevens</a:t>
            </a:r>
            <a:br>
              <a:rPr sz="1600"/>
            </a:b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tUF services aanbieden zoals voorgeschreven in StUF 3.01 specificatie</a:t>
            </a:r>
            <a:br>
              <a:rPr sz="1600"/>
            </a:b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Wijzigingen op zaken middels StUF berichten ‘pushen’ naar zaakafhandelende consumers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9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1) Aangepaste referentiearchitectuur; verbeter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deling van functionaliteit over referentie componen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000" y="11239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ituatie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ken DMS Brug is ontstaan om 4 implementatievarianten te ondersteun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ken DMS Brug zorgt als (hulp) referentiecomponent voor onduidelijkhe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dt gezien als los softwareproduct met eigen interfa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Zaken DMS Brug wordt gezien als doel opzic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Zaken DMS Brug wordt vaak 1 op 1 geassocieerd met de specificatie. Dit maakt de standaard te “eng” en wekt een verkeerde verwacht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oorstel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aliteit van de Zaken DMS Brug onderbrengen bij Zaaksysteem (implementatievariant B in huidige specificati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ices worden op volgende manier verdeeld over de referentiecomponente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2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1) Aangepaste referentiearchitectuur; verbeter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deling van functionaliteit over referentie componen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4000" y="11239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Object 1"/>
          <p:cNvGraphicFramePr/>
          <p:nvPr/>
        </p:nvGraphicFramePr>
        <p:xfrm>
          <a:off x="1066680" y="1311120"/>
          <a:ext cx="660096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11120"/>
                    <a:ext cx="660096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kstvak 6"/>
          <p:cNvSpPr/>
          <p:nvPr/>
        </p:nvSpPr>
        <p:spPr>
          <a:xfrm>
            <a:off x="4724280" y="3720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d0c8b"/>
                </a:solidFill>
                <a:latin typeface="Verdana"/>
                <a:ea typeface="Verdana"/>
              </a:rPr>
              <a:t>optione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4:49:12Z</dcterms:created>
  <dc:creator>user</dc:creator>
  <dc:description/>
  <dc:language>en-US</dc:language>
  <cp:lastModifiedBy>Jan Brinkkemper</cp:lastModifiedBy>
  <cp:lastPrinted>2011-01-16T10:24:48Z</cp:lastPrinted>
  <dcterms:modified xsi:type="dcterms:W3CDTF">2012-10-25T09:07:01Z</dcterms:modified>
  <cp:revision>260</cp:revision>
  <dc:subject/>
  <dc:title>Slide 1</dc:title>
</cp:coreProperties>
</file>